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14B-7F97-44E3-B36B-CD94BB53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070-C6E1-474B-B044-2595D22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AEE-6EC2-439F-9A18-D57DAA7B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5CC-281C-4F6E-AB09-FF26DAEF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A0D8-2503-4163-A005-1836D52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5F04-1B64-4E91-A732-5D73B16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96EF-70F2-4CDE-87C0-F349711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ECBF-0AEA-46B1-A123-8E010A8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F4BF-83D9-4612-A220-8903EECE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018-DE07-4ED8-A33F-7EC7765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834-C1CD-42B2-8C67-2024234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88C-C3B3-46E0-8F8F-9891491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7A1-9163-4B10-9A60-AADEA7CA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712-5569-4BEC-AA3F-5BA1965A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D323-CDDE-4526-A7E9-857FB7B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950-4DAF-49A5-A49C-D891FC0B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0A98-56F9-431B-8197-ED914B57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D39-416F-48A5-9EAA-9E1D9AF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E93-8E8B-4C9A-971D-E2B867F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E65-19CC-4D61-8405-A9DC4F8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AB0-576E-459E-8364-E25F112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1C2-CF51-4F23-8F18-C33208A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98B-314F-42F9-92D3-F5E6969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A98-97E3-40CE-914B-55880BC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E24E-0A35-4043-B0CF-44BE3CF0F7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202F-CF6B-426F-8532-B8FE00ED54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9;&#1082;&#1080;&#1081;_&#1089;&#1090;&#1080;&#1083;&#1100;" TargetMode="External"/><Relationship Id="rId2" Type="http://schemas.openxmlformats.org/officeDocument/2006/relationships/hyperlink" Target="http://ru.wikipedia.org/wiki/&#1043;&#1086;&#1090;&#1080;&#1082;&#1072;" TargetMode="External"/><Relationship Id="rId3" Type="http://schemas.openxmlformats.org/officeDocument/2006/relationships/hyperlink" Target="http://www.alphadesign.cc/osnovy-dizajjna/36/43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469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Freestyle Script"/>
              </a:rPr>
              <a:t>Пять изгибов вдохновенных…</a:t>
            </a:r>
            <a:r>
              <a:rPr b="0" lang="ru-RU" sz="4800" spc="-1" strike="noStrike">
                <a:solidFill>
                  <a:srgbClr val="000000"/>
                </a:solidFill>
                <a:latin typeface="Freestyle Script"/>
              </a:rPr>
              <a:t> </a:t>
            </a:r>
            <a:br>
              <a:rPr sz="48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Время соборов. Искусство Западной Европы в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I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XII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65134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клас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на Лариса Валерьевна, учитель истор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У «СОШ № 1 г. Калининска Саратовской области».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19640" cy="626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626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о происходит от итал. gotico — непривычный, варварский — (Goten — варвары; к историческим готам этот стиль отношения не имеет), и сначала использовалось в качестве бранного. Впервые понятие в современном смысле применил Джорджо Вазари для того, чтобы отделить эпоху Ренессанса от Средневеков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рки  с заострённым верх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зкие  и высокие башни и колонн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00720" y="692280"/>
            <a:ext cx="439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гато  украшенный фасад с резными деталями (вимперги, тимпаны, архивольты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608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ногоцветные  витражные стрельчатые окн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894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67160" cy="4496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2374920" cy="31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392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6800" y="115920"/>
            <a:ext cx="4690800" cy="662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274680"/>
          <a:ext cx="8229600" cy="6106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мант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ти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господства сти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трукти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ные внешни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ные черты интерь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дюшкин В. А., Ведюшкина И. В. История Cредних веков. 6 класс. М.:Просвещение,2009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дюшкин, Ведюшкина - История средних веков. 6 класс. Поурочные рекомендации. Пособие для учителя.М.:Просвещение,20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ru.wikipedia.org/wiki/Романский_сти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ru.wikipedia.org/wiki/Го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alphadesign.cc/osnovy-dizajjna/36/43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лан урок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 action="ppaction://hlinksldjump"/>
              </a:rPr>
              <a:t>Мир романских собор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 action="ppaction://hlinksldjump"/>
              </a:rPr>
              <a:t>Особенности архитектуры романского собо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3" action="ppaction://hlinksldjump"/>
              </a:rPr>
              <a:t>Душа гот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дание: заполнить таблицу по ходу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2124000" y="4941720"/>
            <a:ext cx="287280" cy="574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4920"/>
              <a:gd name="textAreaBottom" fmla="*/ 556560 h 57492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14594"/>
                </a:moveTo>
                <a:lnTo>
                  <a:pt x="17806" y="21600"/>
                </a:lnTo>
                <a:lnTo>
                  <a:pt x="3794" y="286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ир романских соборов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манский стиль (от лат. romanus — римский) — художественный стиль, господствовавший в Западной Европе в X—XII веках (в ряде мест — и в XIII в.), один из важнейших этапов развития средневекового европейского искус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собенности архитектуры романского собор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снове плана — раннехристианская базилика, то есть, продольная организация простран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хора или восточной алтарной части храма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68360" y="1628640"/>
            <a:ext cx="3432240" cy="522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39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высоты храм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мена кессонного (кассетного) потолка каменными сводами. Своды были 2 видов: коробовые и крестовы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233208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яжелые своды потребовали мощные стены и колонн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новной мотив интерьера — полуциркульные ар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1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яжесть романского собора «угнетает» пространств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циональная простота конструкции, сложенной из отдельных квадратных ячеек — трав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5800" cy="318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570120"/>
            <a:ext cx="453708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87640" cy="3106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15120" cy="32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887640" cy="29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уша готи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́тика — период в развитии средневекового искусства, охватывающий почти все области материальной культуры и развивающийся на территории Западной, Центральной и отчасти Восточной Европы с XII по XV век. Готика пришла на смену романскому стилю, постепенно вытесняя е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5:42:23Z</dcterms:created>
  <dc:creator>ыврыварыв</dc:creator>
  <dc:description/>
  <dc:language>en-US</dc:language>
  <cp:lastModifiedBy>ыврыварыв</cp:lastModifiedBy>
  <dcterms:modified xsi:type="dcterms:W3CDTF">2011-02-24T10:47:36Z</dcterms:modified>
  <cp:revision>4</cp:revision>
  <dc:subject/>
  <dc:title>Время соборов </dc:title>
</cp:coreProperties>
</file>